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19F-8269-40E5-9E96-5F5ABBB6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AFD-27E9-47F5-B8AB-AB57E9D4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3BA-6F00-4BC9-8C0A-362F3454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4BC-FA52-4047-8DD0-CBADA3C5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D0C-0EAC-4FD9-8A94-D6C14914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316-0D51-4CCE-B825-F1E83031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564-D532-4C15-8201-C3A8C2E2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60D-FD23-4269-8531-3F1ED79A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077-4F82-4B99-85FE-C78DD2B1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B1E-AF2F-4545-96D6-EEFB18DE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1EE-5453-4157-9710-A4BEFC96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007-636E-421A-840E-684BB051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AAB2-48BE-4213-9A2C-BE908FB52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7 Nemeškaj, Pán vol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eškaj, Pán vol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sebe všetkých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uje ťa vrúc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čuj jeho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ateľstvo ti chý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ítiš, že si sám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Ťa uisťuj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ťa, rád ťa mám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die nad tebou ver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,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va silu k prác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ný tiež 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reky a smútok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žeň spredo dvier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na teba mysl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boj sa, len 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ácu v svätom diel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e teba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užbu lásky blížny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požeh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o jeho lásk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de roznáš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ude vždy s teb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na to pamät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i domov chy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sta je v ňom d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žeš tam žiť več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len ako h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 pokoj dá 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ho prijmeš vier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nájde ci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8:49:27Z</dcterms:modified>
  <cp:revision>20</cp:revision>
  <dc:subject/>
  <dc:title>Je veľký náš Pán, on slávy je Kráľ Nech do všetkých strán  spev vrúcnych znie chvál.</dc:title>
</cp:coreProperties>
</file>